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CD2B-E50E-4D5A-BCF4-9B02CE0964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5D79A-E9FE-4831-9C1C-12E21EB1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9D98-2B87-4FF3-A845-4579581E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CBA1-0B44-49D0-91CD-F9627164FE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8DA3-46D3-4623-92DD-72868D15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CF0F-DC97-4048-A45E-5706F45B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C527-99B9-46D9-A5CD-37008D0B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C86D-FDBE-4E38-AACB-D3BA46DE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07EF-B4CE-4D7F-A4E9-43119C6D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6880-8E31-4601-BDBD-0B2F29DC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6034A-E3E8-4330-8CB1-400E662C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F139-6F66-41C4-B907-C22E37E7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43EC-6DDF-40E4-88E9-FD5D1A73E9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增加肾小管氯离子浓度从而有一定利尿作用，肾功能严重减退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个别患者可出现皮疹，需注意观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增加钾的排出易造成低钾血压，须密切观察有否低血钾症状出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285920"/>
            <a:ext cx="861084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哮喘的治疗目标由过去的控制哮喘急性发作，转变为防制慢性气道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策略包括两个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一）抗炎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糖皮质激素控制炎症，或用抗过敏药物预防哮喘发作，或用白三烯调节剂减轻炎症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二）控制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支气管舒张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激动药、茶碱类、抗胆碱药等）缓解支气管平滑肌痉挛，缓解哮喘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支气管舒张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沙丁胺醇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salbutamol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舒喘灵、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特点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兴奋支气管平滑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、对支气管有强而持久的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作用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激动冠状血管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可扩张冠状血管，从而增加冠状动脉的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剂量基本上不出现心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喘息性支气管炎、肺气肿伴有支气管痉挛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常见骨骼肌震颤，以手指震颤多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过大可引起心悸、头晕、头痛、心动过速、血压波动，甚至心律失常，一般减量即恢复，严重时应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部分患者用药后可有眩晕，应告诉患者用药期间不要从事危险性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支气管扩张作用可被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拮抗，不宜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力衰竭、高血压、糖尿病、甲状腺功能亢进患者慎用，孕妇不宜使用本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时较常见反应为手指震颤，应调整药量。若服药后头晕、呼吸困难加重，应报告医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晨起或饭前吸入疗效最好。药物可致失眠，为此可将下午的药提早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给药前后注意心率、心律和血压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时，嘱患者作深而慢的吸气，以保证药物均匀分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严格掌握用量，以防耐受性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茶碱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氨茶碱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inophylli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细胞内磷酸二酯酶的活性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分解减少，提高细胞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促进肾上腺素和去甲肾上腺素的释放，兴奋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所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可增强膈肌和肋间肌的收缩力，减轻呼吸疲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脉血管有扩张作用，增强心肌收缩力，有较弱的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支气管哮喘、喘息性支气管炎、肺气肿和其他阻塞性肺部疾患所引起的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心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呈强碱性，局部刺激作用强，口服致胃肠道反应常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肌注可引起局部红肿、疼痛，故不宜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剂量过大可发生瞻妄、惊厥，可用镇静药对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饭后服药以减轻胃肠反应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需稀释后缓慢注射，注射时间不少于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易引起失眠不安等，可同时应用少量镇静催眠药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碱性药，遇酸性药易产生沉淀，不宜与哌替啶、洛贝林、维生素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等药配合应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代谢慢，用药剂量宜个体化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,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期间应监测血药浓度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须密切观察反应，若出现烦燥不安等反应，可先吸氧或给安定镇静，尽快报告医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胆碱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异丙阿托品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ipratropium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爱全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呼吸道平滑肌具有较高的选择性，有明显的支气管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第一秒钟最大呼气量，而不影响痰液分泌，且无明显全身性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血管、腺体、瞳孔的作用不明显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用于喘息性支气管炎和内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6760" y="1071360"/>
            <a:ext cx="8558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拟肾上腺素药如沙丁氨醇、茶碱类药物如氨茶碱的作用特点、机制、临床应用、主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根据作用机制不同，平喘药的分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待因、糖皮质激素、色甘酸钠作用特点、镇咳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平喘机制、临床应用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氯化铵、异丙阿托品、扎鲁司特的作用特点、临床应用和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8556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抗炎平喘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糖皮质激素类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倍氯米松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clomethaso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必可酮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，直接作用于气道发生抗炎平喘作用，且无全身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抑制肾上腺皮质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长期低剂量或短期高剂量应用于中度或重度哮喘患者，对依赖口服激素的患者，停用口服而改用吸入本品可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易发生咽部念珠菌感染，每次吸入后应即漱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若发现皮质功能减退症状时，应报告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000080"/>
            <a:ext cx="8610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白三烯调节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扎鲁司特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zafirlukast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竞争性抑制白三烯活性，拮抗白三烯所致的支气管收缩和炎症，减轻哮喘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多种抗原、阿司匹林、运动及冷空气所致的哮喘均有良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用药以预防哮喘发作，尤阿司匹林哮喘患者，但不适用于治疗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糖皮质激素合用可获得协同抗炎作用，并减少糖皮质激素的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可有轻度头痛、咽炎、鼻炎、胃肠道反应，偶见转氨酶升高，停药后可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过敏平喘药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肥大细胞膜稳定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色甘酸钠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disodium cromoglycat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抗过敏药，无直接舒张支气管平滑肌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在接触抗原前用药，可预防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Ⅰ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变态反应所致的哮喘，也能预防运动或其他刺激所致的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抑制肺肥大细胞对各种刺激，包括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gE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抗原结合所引起脱颗粒作用，抑制组胺及颗粒中其他内容物的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逆转哮喘患者白细胞功能改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很少吸收，细粉可从鼻黏膜和肺吸收，连用数日后方可见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预防哮喘发作，以提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用药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过敏性鼻炎、溃疡性结肠炎及其它过敏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儿童效果更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个月无效者应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少数患者困粉末吸入后对咽喉部、气管刺激，引起咽痒、呛咳甚至诱发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药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先用少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兴奋剂吸入，可防止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见出现荨麻疹。孕妇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教会患者正确使用药物方法，切忌吞服胶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嘱患者应连续用药，勿随意停药诱发哮喘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指导患者如发生喉刺激症状，如咳嗽及声音嘶哑可在每次治疗后用清水漱口、喝水或吮糖块等方法减轻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2960" y="1571400"/>
            <a:ext cx="7858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平喘药分哪几类？各举一代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沙丁胺醇的平喘作用机制和临床应用和药疗监护须知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氨茶碱的作用机制、临床应用和药疗监护内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镇咳药按其作用机制不同，可分为中枢性镇咳药和外周性镇咳药两大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中枢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强、疗效可靠，但有些药物易成瘾和不同程度地抑制呼吸，因而应用受到限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可待因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ode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直接抑制延髓的咳嗽中枢，镇咳作用强而迅速，也有镇痛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吸收迅速完全，约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起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原因引起的剧烈干咳，刺激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尤其是伴有胸痛的剧烈干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有眩晕、恶心、呕吐及便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量（单次剂量大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0mg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易产生中枢兴奋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支气管腺体分泌，使痰液黏稠、不易咳出、痰多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支气管平滑肌有轻度收缩作用，故呼吸不畅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连续应用可产生耐药性和成瘾性，应控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品按麻醉剂管理、控制使用，未经医生允许不可擅自发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外周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苯佐那酯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nzonatat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退嗽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局麻性外周性镇咳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收后分布于呼吸道，对肺脏的牵张感受器及感觉神经反射有明显抑制作用，抑制肺迷走神经反射，阻断咳嗽反射的传入冲动，而产生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咳嗽中枢亦可能有一定的抑制作用，但不抑制呼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患者用药后可见呼吸加深加快，增加每分钟通气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镇咳强度略低于可待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428840"/>
            <a:ext cx="861048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祛痰药一般可分为两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恶心性祛痰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神经末梢，引起轻微的恶心、反射性地促进腺体分泌增加，稀释痰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黏痰溶解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使痰液中的黏性成分分解，分子变小而降低痰液黏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以上两类祛痰药均可使痰液变稀而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化铵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monium chlorid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迷走神经末梢，引起轻度恶心，反射性地促进呼吸道分泌增加而稀释黏痰，使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铵离子在体内转化为尿素，氯离子与相当量的钠离子和水共同排出而起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炎症初期痰少而稠，还可酸化体液和尿液，促进碱性药物的排泄，并可用于纠正低氯性碱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呼吸道炎症初期，使少量黏稠的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：主要见于继发性氨中毒导致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中枢神经系统：头痛、嗜睡、抑郁、抽搐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血管系统：各种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：胃刺激、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代谢性酸中毒、高血氨、皮疹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减少对胃刺激，片剂宜用水溶解于饭后服用。溃疡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使血氨增高，因而肝功能不全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6:01:32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